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462-B22F-4214-A67D-AE91AAB2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A6E-AAB3-4FA8-9B7A-EEBE174F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831-61F5-4084-BBF2-FEC5903B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46D-278D-473B-8617-9CE306B8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889C1-CE74-4E27-8CB2-D41144AF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A6E63-46A7-4FA0-916E-B8B3484A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22207-3F79-4252-9D4F-C5B3A341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1CA72-1A17-424F-A6C9-626FD702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DC618-78A0-4FA8-AA87-7FE91521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CCB12-8CBD-4EA7-A41C-953261B4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EBCD0-0C84-4B34-A0CE-F7F497D9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E7D-3C86-4021-B78E-A60BB2FF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48272-9538-4C15-B38A-74814ABD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96C5C-9EBD-45B5-ACFE-2139F099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93AEC-C0A3-4EA9-B08B-27A5C7B3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4A584-97DE-473B-B04F-CE79653C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2311E-4915-4AF3-9133-CC6DBD3F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C54-DE91-4CD6-AFCB-1C172632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1C8-B6C7-43F0-B36C-B6DD11B0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C42-1169-4A2D-AAAE-1E964BD7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F01-EDFE-4BE4-9CD0-51542829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C4B-47E8-40FF-8319-D850D670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DA7-3F11-4763-AACD-16ABF3EC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88F-879B-408D-9F50-1E4B6B5E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AD02-5201-4017-B2F1-42E7297869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FBFE-8804-4B26-91A1-E3DD42C317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391520" y="4800600"/>
            <a:ext cx="1752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na Bai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14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re#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carriage" descr="Princess in carriage. Free faity-tales clipart from www.GaliGifts.com collection"/>
          <p:cNvPicPr/>
          <p:nvPr/>
        </p:nvPicPr>
        <p:blipFill>
          <a:blip r:embed="rId1"/>
          <a:stretch/>
        </p:blipFill>
        <p:spPr>
          <a:xfrm>
            <a:off x="533520" y="3200400"/>
            <a:ext cx="1828800" cy="1523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371600" y="380880"/>
            <a:ext cx="165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ince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752480"/>
            <a:ext cx="8839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day there was a princess who dreamed of her mother. She heard her mother, s voice in her dream. That made her very happ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6:50:24Z</dcterms:created>
  <dc:creator>install</dc:creator>
  <dc:description/>
  <dc:language>en-US</dc:language>
  <cp:lastModifiedBy>install</cp:lastModifiedBy>
  <dcterms:modified xsi:type="dcterms:W3CDTF">2012-04-13T16:10:59Z</dcterms:modified>
  <cp:revision>7</cp:revision>
  <dc:subject/>
  <dc:title>Slide 1</dc:title>
</cp:coreProperties>
</file>